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0EFDBF-072F-4BD2-A5B3-B7EEC6650B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19040" y="1523880"/>
            <a:ext cx="8477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9900"/>
              </a:solidFill>
              <a:latin typeface="Arial Narrow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28200" y="3171600"/>
            <a:ext cx="4970520" cy="97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28200" y="4239360"/>
            <a:ext cx="4970520" cy="97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A72566-21AB-4154-B02E-F960B67A7D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1523880"/>
            <a:ext cx="8477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9900"/>
              </a:solidFill>
              <a:latin typeface="Arial Narrow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28200" y="3171600"/>
            <a:ext cx="2425320" cy="97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75200" y="3171600"/>
            <a:ext cx="2425320" cy="97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8200" y="4239360"/>
            <a:ext cx="2425320" cy="97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175200" y="4239360"/>
            <a:ext cx="2425320" cy="97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EF1E6C-74F1-4103-B24F-B0635AD7E6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19040" y="1523880"/>
            <a:ext cx="8477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9900"/>
              </a:solidFill>
              <a:latin typeface="Arial Narrow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28200" y="3171600"/>
            <a:ext cx="1600200" cy="97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2308680" y="3171600"/>
            <a:ext cx="1600200" cy="97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3989520" y="3171600"/>
            <a:ext cx="1600200" cy="97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28200" y="4239360"/>
            <a:ext cx="1600200" cy="97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2308680" y="4239360"/>
            <a:ext cx="1600200" cy="97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3989520" y="4239360"/>
            <a:ext cx="1600200" cy="97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ADBFA1-A793-4E14-9D61-CEC3D9AC7A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107A46-D4D4-4B92-B690-77D01A754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19040" y="1523880"/>
            <a:ext cx="8477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99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628200" y="3171600"/>
            <a:ext cx="4970520" cy="204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DA74A6-CF4B-4E11-9613-716632B58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19040" y="1523880"/>
            <a:ext cx="8477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9900"/>
              </a:solidFill>
              <a:latin typeface="Arial Narrow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28200" y="3171600"/>
            <a:ext cx="4970520" cy="20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6BF900-B812-4D64-B7CE-713C6002B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19040" y="1523880"/>
            <a:ext cx="8477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9900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28200" y="3171600"/>
            <a:ext cx="2425320" cy="20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75200" y="3171600"/>
            <a:ext cx="2425320" cy="20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F70C47-7FCE-4D22-A6FB-A1BA89C34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19040" y="1523880"/>
            <a:ext cx="8477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99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EB2647-8017-4140-A54B-BEB493088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419040" y="1523880"/>
            <a:ext cx="8477280" cy="6359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222700-04FB-42D9-A198-BD974773C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19040" y="1523880"/>
            <a:ext cx="8477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99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28200" y="3171600"/>
            <a:ext cx="2425320" cy="97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175200" y="3171600"/>
            <a:ext cx="2425320" cy="20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8200" y="4239360"/>
            <a:ext cx="2425320" cy="97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B91202-0B1F-48BF-87BA-043F3D7EB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19040" y="1523880"/>
            <a:ext cx="8477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9900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28200" y="3171600"/>
            <a:ext cx="4970520" cy="204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1DBEAE-F2CD-467D-A28F-D67F5A4E29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19040" y="1523880"/>
            <a:ext cx="8477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99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28200" y="3171600"/>
            <a:ext cx="2425320" cy="20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175200" y="3171600"/>
            <a:ext cx="2425320" cy="97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3175200" y="4239360"/>
            <a:ext cx="2425320" cy="97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9336C2-E4EB-4AD2-B731-DF57D07D2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19040" y="1523880"/>
            <a:ext cx="8477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99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28200" y="3171600"/>
            <a:ext cx="2425320" cy="97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175200" y="3171600"/>
            <a:ext cx="2425320" cy="97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8200" y="4239360"/>
            <a:ext cx="4970520" cy="97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5AE7D8-BC70-4B11-9786-12ADE60C6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19040" y="1523880"/>
            <a:ext cx="8477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99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28200" y="3171600"/>
            <a:ext cx="4970520" cy="97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628200" y="4239360"/>
            <a:ext cx="4970520" cy="97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19FFAB-D0AD-443F-BEF2-6E48A6937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19040" y="1523880"/>
            <a:ext cx="8477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9900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28200" y="3171600"/>
            <a:ext cx="2425320" cy="97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175200" y="3171600"/>
            <a:ext cx="2425320" cy="97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28200" y="4239360"/>
            <a:ext cx="2425320" cy="97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3175200" y="4239360"/>
            <a:ext cx="2425320" cy="97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C0B5B8-2ABB-4913-B5AC-ACCB86FD7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19040" y="1523880"/>
            <a:ext cx="8477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99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28200" y="3171600"/>
            <a:ext cx="1600200" cy="97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2308680" y="3171600"/>
            <a:ext cx="1600200" cy="97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3989520" y="3171600"/>
            <a:ext cx="1600200" cy="97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628200" y="4239360"/>
            <a:ext cx="1600200" cy="97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2308680" y="4239360"/>
            <a:ext cx="1600200" cy="97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3989520" y="4239360"/>
            <a:ext cx="1600200" cy="97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70D763-91E7-4991-9723-AF370CF27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1523880"/>
            <a:ext cx="8477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9900"/>
              </a:solidFill>
              <a:latin typeface="Arial Narrow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200" y="3171600"/>
            <a:ext cx="4970520" cy="20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9B04FF-6FC0-42C2-BC07-168B86D707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1523880"/>
            <a:ext cx="8477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9900"/>
              </a:solidFill>
              <a:latin typeface="Arial Narrow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28200" y="3171600"/>
            <a:ext cx="2425320" cy="20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3175200" y="3171600"/>
            <a:ext cx="2425320" cy="20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D53DFE-3C1B-4E5E-8098-06C83C26A1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19040" y="1523880"/>
            <a:ext cx="8477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99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079E40-0047-422E-BF0A-4987624F13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19040" y="1523880"/>
            <a:ext cx="8477280" cy="6359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F1513B-14A1-42EF-BD9D-3B3F1381E7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19040" y="1523880"/>
            <a:ext cx="8477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9900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28200" y="3171600"/>
            <a:ext cx="2425320" cy="97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3175200" y="3171600"/>
            <a:ext cx="2425320" cy="20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28200" y="4239360"/>
            <a:ext cx="2425320" cy="97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07614F-D0C2-4E8F-AD55-6E061CF992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19040" y="1523880"/>
            <a:ext cx="8477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9900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28200" y="3171600"/>
            <a:ext cx="2425320" cy="20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175200" y="3171600"/>
            <a:ext cx="2425320" cy="97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175200" y="4239360"/>
            <a:ext cx="2425320" cy="97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CE2DEC-480D-409F-8FEE-BEE6256073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19040" y="1523880"/>
            <a:ext cx="8477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9900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200" y="3171600"/>
            <a:ext cx="2425320" cy="97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175200" y="3171600"/>
            <a:ext cx="2425320" cy="97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200" y="4239360"/>
            <a:ext cx="4970520" cy="97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6B5515-29F7-4D69-A840-F2B7579778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264960"/>
            <a:ext cx="8915400" cy="6589800"/>
          </a:xfrm>
          <a:prstGeom prst="rtTriangle">
            <a:avLst/>
          </a:prstGeom>
          <a:gradFill rotWithShape="0">
            <a:gsLst>
              <a:gs pos="0">
                <a:srgbClr val="462f17"/>
              </a:gs>
              <a:gs pos="100000">
                <a:srgbClr val="99663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5638680" y="5275440"/>
            <a:ext cx="3389400" cy="685800"/>
          </a:xfrm>
          <a:prstGeom prst="rect">
            <a:avLst/>
          </a:prstGeom>
          <a:gradFill rotWithShape="0">
            <a:gsLst>
              <a:gs pos="0">
                <a:srgbClr val="462f17"/>
              </a:gs>
              <a:gs pos="50000">
                <a:srgbClr val="996633">
                  <a:alpha val="50196"/>
                </a:srgbClr>
              </a:gs>
              <a:gs pos="100000">
                <a:srgbClr val="462f1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5840" y="1066680"/>
            <a:ext cx="9128160" cy="1320840"/>
          </a:xfrm>
          <a:prstGeom prst="rect">
            <a:avLst/>
          </a:prstGeom>
          <a:gradFill rotWithShape="0">
            <a:gsLst>
              <a:gs pos="0">
                <a:srgbClr val="462f17"/>
              </a:gs>
              <a:gs pos="50000">
                <a:srgbClr val="996633"/>
              </a:gs>
              <a:gs pos="100000">
                <a:srgbClr val="462f1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69600" y="2574720"/>
            <a:ext cx="494820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ff9933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-21456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504080" indent="-21456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933920" indent="-21456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933920" indent="-21456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933920" indent="-21456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2568240" y="6119280"/>
            <a:ext cx="3908520" cy="47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E3FB1-4FEC-41DC-A36A-1B3D3513B00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 flipH="1">
            <a:off x="5718960" y="-360"/>
            <a:ext cx="6857640" cy="6857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302" y="12"/>
                </a:moveTo>
                <a:arcTo wR="10800" hR="10800" stAng="-5240302" swAng="10509791"/>
                <a:lnTo>
                  <a:pt x="10800" y="10800"/>
                </a:lnTo>
                <a:close/>
              </a:path>
              <a:path fill="none" w="21600" h="21600">
                <a:moveTo>
                  <a:pt x="11302" y="12"/>
                </a:moveTo>
                <a:arcTo wR="10800" hR="10800" stAng="-5240302" swAng="10509791"/>
              </a:path>
            </a:pathLst>
          </a:custGeom>
          <a:noFill/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 flipV="1">
            <a:off x="6782040" y="-3200760"/>
            <a:ext cx="4723560" cy="4723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89" y="7005"/>
                </a:moveTo>
                <a:arcTo wR="10800" hR="10800" stAng="-9565662" swAng="4127954"/>
                <a:lnTo>
                  <a:pt x="10800" y="10800"/>
                </a:lnTo>
                <a:close/>
              </a:path>
              <a:path fill="none" w="21600" h="21600">
                <a:moveTo>
                  <a:pt x="689" y="7005"/>
                </a:moveTo>
                <a:arcTo wR="10800" hR="10800" stAng="-9565662" swAng="4127954"/>
              </a:path>
            </a:pathLst>
          </a:custGeom>
          <a:noFill/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 flipH="1" flipV="1">
            <a:off x="6715800" y="-17280"/>
            <a:ext cx="2361960" cy="2727720"/>
          </a:xfrm>
          <a:prstGeom prst="line">
            <a:avLst/>
          </a:prstGeom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243920" y="-12600"/>
            <a:ext cx="1440" cy="6811920"/>
          </a:xfrm>
          <a:prstGeom prst="line">
            <a:avLst/>
          </a:prstGeom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0" y="5275440"/>
            <a:ext cx="4603680" cy="685800"/>
          </a:xfrm>
          <a:prstGeom prst="rect">
            <a:avLst/>
          </a:prstGeom>
          <a:gradFill rotWithShape="0">
            <a:gsLst>
              <a:gs pos="0">
                <a:srgbClr val="462f17"/>
              </a:gs>
              <a:gs pos="50000">
                <a:srgbClr val="996633">
                  <a:alpha val="50196"/>
                </a:srgbClr>
              </a:gs>
              <a:gs pos="100000">
                <a:srgbClr val="462f1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268200"/>
            <a:ext cx="8915400" cy="6589800"/>
          </a:xfrm>
          <a:prstGeom prst="rtTriangle">
            <a:avLst/>
          </a:prstGeom>
          <a:noFill/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5840" y="1523880"/>
            <a:ext cx="9128160" cy="1320840"/>
          </a:xfrm>
          <a:prstGeom prst="rect">
            <a:avLst/>
          </a:prstGeom>
          <a:gradFill rotWithShape="0">
            <a:gsLst>
              <a:gs pos="0">
                <a:srgbClr val="462f17"/>
              </a:gs>
              <a:gs pos="50000">
                <a:srgbClr val="996633"/>
              </a:gs>
              <a:gs pos="100000">
                <a:srgbClr val="462f1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42880" y="3228840"/>
            <a:ext cx="0" cy="3627720"/>
          </a:xfrm>
          <a:prstGeom prst="line">
            <a:avLst/>
          </a:prstGeom>
          <a:ln cap="sq" w="1260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6837480" y="-9360"/>
            <a:ext cx="330120" cy="6875280"/>
            <a:chOff x="6837480" y="-9360"/>
            <a:chExt cx="330120" cy="6875280"/>
          </a:xfrm>
        </p:grpSpPr>
        <p:sp>
          <p:nvSpPr>
            <p:cNvPr id="53" name=""/>
            <p:cNvSpPr/>
            <p:nvPr/>
          </p:nvSpPr>
          <p:spPr>
            <a:xfrm>
              <a:off x="6865920" y="6721560"/>
              <a:ext cx="76320" cy="14436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837480" y="3048120"/>
              <a:ext cx="75960" cy="83664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142040" y="3352680"/>
              <a:ext cx="25560" cy="83664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837480" y="4267080"/>
              <a:ext cx="75960" cy="83664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837480" y="5486400"/>
              <a:ext cx="75960" cy="83664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7142040" y="4572000"/>
              <a:ext cx="25560" cy="83664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142040" y="5791320"/>
              <a:ext cx="25560" cy="83664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837480" y="-9360"/>
              <a:ext cx="75960" cy="10296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7142040" y="-7920"/>
              <a:ext cx="25560" cy="40644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837480" y="476280"/>
              <a:ext cx="75960" cy="83664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37480" y="1695600"/>
              <a:ext cx="75960" cy="83664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42040" y="781200"/>
              <a:ext cx="25560" cy="83664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142040" y="2000160"/>
              <a:ext cx="25560" cy="83664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PlaceHolder 1"/>
          <p:cNvSpPr>
            <a:spLocks noGrp="1"/>
          </p:cNvSpPr>
          <p:nvPr>
            <p:ph type="dt" idx="3"/>
          </p:nvPr>
        </p:nvSpPr>
        <p:spPr>
          <a:xfrm>
            <a:off x="685440" y="5257440"/>
            <a:ext cx="3908520" cy="34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ftr" idx="4"/>
          </p:nvPr>
        </p:nvSpPr>
        <p:spPr>
          <a:xfrm>
            <a:off x="685440" y="5638320"/>
            <a:ext cx="39085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sldNum" idx="5"/>
          </p:nvPr>
        </p:nvSpPr>
        <p:spPr>
          <a:xfrm>
            <a:off x="7236000" y="6356160"/>
            <a:ext cx="1908000" cy="501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Autofit/>
          </a:bodyPr>
          <a:lstStyle>
            <a:lvl1pPr lvl="1" marL="114480" indent="0" algn="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lvl="1" marL="114480" indent="0" algn="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B5419-ED7F-4B04-BAD4-005BC8B1C65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87200" y="404640"/>
            <a:ext cx="7489800" cy="5542200"/>
          </a:xfrm>
          <a:custGeom>
            <a:avLst/>
            <a:gdLst/>
            <a:ahLst/>
            <a:rect l="l" t="t" r="r" b="b"/>
            <a:pathLst>
              <a:path w="4718" h="3491">
                <a:moveTo>
                  <a:pt x="4718" y="3491"/>
                </a:moveTo>
                <a:lnTo>
                  <a:pt x="4718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99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0520" y="1676520"/>
            <a:ext cx="9128160" cy="1320840"/>
          </a:xfrm>
          <a:prstGeom prst="rect">
            <a:avLst/>
          </a:prstGeom>
          <a:gradFill rotWithShape="0">
            <a:gsLst>
              <a:gs pos="0">
                <a:srgbClr val="462f17"/>
              </a:gs>
              <a:gs pos="50000">
                <a:srgbClr val="996633"/>
              </a:gs>
              <a:gs pos="100000">
                <a:srgbClr val="462f1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title"/>
          </p:nvPr>
        </p:nvSpPr>
        <p:spPr>
          <a:xfrm>
            <a:off x="419040" y="1523880"/>
            <a:ext cx="8477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Arial Narrow"/>
              </a:rPr>
              <a:t>Click to edit the title text format</a:t>
            </a:r>
            <a:endParaRPr b="0" lang="en-US" sz="4000" spc="-1" strike="noStrike">
              <a:solidFill>
                <a:srgbClr val="ff9900"/>
              </a:solidFill>
              <a:latin typeface="Arial Narrow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866560" y="-360"/>
            <a:ext cx="6857640" cy="6857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302" y="12"/>
                </a:moveTo>
                <a:arcTo wR="10800" hR="10800" stAng="-5240302" swAng="10509791"/>
                <a:lnTo>
                  <a:pt x="10800" y="10800"/>
                </a:lnTo>
                <a:close/>
              </a:path>
              <a:path fill="none" w="21600" h="21600">
                <a:moveTo>
                  <a:pt x="11302" y="12"/>
                </a:moveTo>
                <a:arcTo wR="10800" hR="10800" stAng="-5240302" swAng="10509791"/>
              </a:path>
            </a:pathLst>
          </a:custGeom>
          <a:noFill/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http://www.mct.gov.br/temas/socinfo/livro_verde/c07.pdf" TargetMode="External"/><Relationship Id="rId2" Type="http://schemas.openxmlformats.org/officeDocument/2006/relationships/hyperlink" Target="http://www.mct.gov.br/temas/socinfo/livro_verde/c07.pdf" TargetMode="External"/><Relationship Id="rId3" Type="http://schemas.openxmlformats.org/officeDocument/2006/relationships/hyperlink" Target="http://www.inf.unioeste.br/~cbrizzi/infsoc.htm" TargetMode="External"/><Relationship Id="rId4" Type="http://schemas.openxmlformats.org/officeDocument/2006/relationships/hyperlink" Target="http://www.geocities.com/garfield232323/informatica_e_sociedade" TargetMode="External"/><Relationship Id="rId5" Type="http://schemas.openxmlformats.org/officeDocument/2006/relationships/hyperlink" Target="http://www.ufmg.br/prpg/anais3_ex_terra.htm" TargetMode="External"/><Relationship Id="rId6" Type="http://schemas.openxmlformats.org/officeDocument/2006/relationships/hyperlink" Target="http://www.ufmg.br/prpg/anais3_ex_terra.htm" TargetMode="External"/><Relationship Id="rId7" Type="http://schemas.openxmlformats.org/officeDocument/2006/relationships/hyperlink" Target="http://www.ufmg.br/prpg/anais3_ex_terra.htm" TargetMode="External"/><Relationship Id="rId8" Type="http://schemas.openxmlformats.org/officeDocument/2006/relationships/hyperlink" Target="http://www.ufmg.br/prpg/anais3_ex_terra.htm" TargetMode="External"/><Relationship Id="rId9" Type="http://schemas.openxmlformats.org/officeDocument/2006/relationships/hyperlink" Target="http://www.ufmg.br/prpg/anais3_ex_terra.htm" TargetMode="External"/><Relationship Id="rId10" Type="http://schemas.openxmlformats.org/officeDocument/2006/relationships/hyperlink" Target="http://www.ufmg.br/prpg/anais3_ex_terra.htm" TargetMode="External"/><Relationship Id="rId11" Type="http://schemas.openxmlformats.org/officeDocument/2006/relationships/hyperlink" Target="http://www.ufmg.br/prpg/anais3_ex_terra.htm" TargetMode="External"/><Relationship Id="rId12" Type="http://schemas.openxmlformats.org/officeDocument/2006/relationships/hyperlink" Target="http://www.nib.unicamp.br/papers/reporter-medico-03.htm" TargetMode="External"/><Relationship Id="rId13" Type="http://schemas.openxmlformats.org/officeDocument/2006/relationships/hyperlink" Target="http://www.nib.unicamp.br/papers/reporter-medico-03.htm" TargetMode="External"/><Relationship Id="rId14" Type="http://schemas.openxmlformats.org/officeDocument/2006/relationships/hyperlink" Target="http://www.epub.org.br/correio/cp991203.htm" TargetMode="External"/><Relationship Id="rId15" Type="http://schemas.openxmlformats.org/officeDocument/2006/relationships/hyperlink" Target="http://www.epub.org.br/correio/cp991203.htm" TargetMode="External"/><Relationship Id="rId16" Type="http://schemas.openxmlformats.org/officeDocument/2006/relationships/hyperlink" Target="http://www.cic.unb.br/extensao/c003/c003.htm" TargetMode="External"/><Relationship Id="rId17" Type="http://schemas.openxmlformats.org/officeDocument/2006/relationships/hyperlink" Target="http://www.cic.unb.br/extensao/c003/c003.htm" TargetMode="External"/><Relationship Id="rId18" Type="http://schemas.openxmlformats.org/officeDocument/2006/relationships/hyperlink" Target="http://www.cic.unb.br/extensao/c003/c003.htm" TargetMode="External"/><Relationship Id="rId19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4419720" y="4159800"/>
            <a:ext cx="10666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9933"/>
                </a:solidFill>
                <a:uFillTx/>
                <a:latin typeface="Times New Roman"/>
              </a:rPr>
              <a:t>Aluno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2286000" y="3124080"/>
            <a:ext cx="5029200" cy="7081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Times New Roman"/>
              </a:rPr>
              <a:t>GRUPO NICANOR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542560" y="4799520"/>
            <a:ext cx="3058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Times New Roman"/>
              </a:rPr>
              <a:t>Douglas Andrade Barbos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Times New Roman"/>
              </a:rPr>
              <a:t>Juliana Sew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312520" y="5104440"/>
            <a:ext cx="3362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Times New Roman"/>
              </a:rPr>
              <a:t>Fernando Benites Bast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Times New Roman"/>
              </a:rPr>
              <a:t>Roger Araújo do Nasciment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958720" y="6018840"/>
            <a:ext cx="199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Nicanor da Silv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850880" y="6018840"/>
            <a:ext cx="88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Times New Roman"/>
              </a:rPr>
              <a:t>DEDÉ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066680" y="312120"/>
            <a:ext cx="7228080" cy="21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  <a:ea typeface="Courier New"/>
              </a:rPr>
              <a:t>UFMS - Universidade Federal de Mato Grosso do Su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  <a:ea typeface="Courier New"/>
              </a:rPr>
              <a:t>CCET - Centro de Ciências Exatas e Tecnológic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  <a:ea typeface="Courier New"/>
              </a:rPr>
              <a:t>DCT - Departamento de Computação e Estatíst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  <a:ea typeface="Courier New"/>
              </a:rPr>
              <a:t>Análise de Sistemas - 3º An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  <a:ea typeface="Courier New"/>
              </a:rPr>
              <a:t>Tópicos em Sistema de Informaçã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  <a:ea typeface="Courier New"/>
              </a:rPr>
              <a:t>Prof. Dr. Marcelo Augusto Santos Turin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212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33"/>
                </a:solidFill>
                <a:latin typeface="Arial Narrow"/>
              </a:rPr>
              <a:t>P&amp;D Tecnologias-Chave e Aplicações</a:t>
            </a:r>
            <a:endParaRPr b="0" lang="en-US" sz="2000" spc="-1" strike="noStrike">
              <a:solidFill>
                <a:srgbClr val="ff9900"/>
              </a:solidFill>
              <a:latin typeface="Arial Narrow"/>
            </a:endParaRPr>
          </a:p>
        </p:txBody>
      </p:sp>
      <p:sp>
        <p:nvSpPr>
          <p:cNvPr id="144" name=""/>
          <p:cNvSpPr/>
          <p:nvPr/>
        </p:nvSpPr>
        <p:spPr>
          <a:xfrm>
            <a:off x="2359800" y="6247800"/>
            <a:ext cx="457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Times New Roman"/>
              </a:rPr>
              <a:t>UFMS - Sistemas de Informação - Prof.º Turi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86280" y="1050480"/>
            <a:ext cx="835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Times New Roman"/>
              </a:rPr>
              <a:t>Posição da Europa diante de 136 tecnologia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838080" y="1978560"/>
            <a:ext cx="7925040" cy="38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Forte     Média    Fraca    Inexisten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No Plano Científico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    69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    54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     13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            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No Plano Industrial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    47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    61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     25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            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É interessante notar que, de acordo  com  esses dados  a  Europa se revelava mais forte no plano científico do que  no  plano industrial, com respeito às 136  tecnologias identificadas e no plano industrial, a Europa se revelava forte em somente um terço das tecnologias identificada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Times New Roman"/>
              </a:rPr>
              <a:t>(Fonte : Levantamento SocInfo    feito em 1996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6212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33"/>
                </a:solidFill>
                <a:latin typeface="Arial Narrow"/>
              </a:rPr>
              <a:t>P&amp;D Tecnologias-Chave e Aplicações</a:t>
            </a:r>
            <a:endParaRPr b="0" lang="en-US" sz="2000" spc="-1" strike="noStrike">
              <a:solidFill>
                <a:srgbClr val="ff9900"/>
              </a:solidFill>
              <a:latin typeface="Arial Narrow"/>
            </a:endParaRPr>
          </a:p>
        </p:txBody>
      </p:sp>
      <p:sp>
        <p:nvSpPr>
          <p:cNvPr id="148" name=""/>
          <p:cNvSpPr/>
          <p:nvPr/>
        </p:nvSpPr>
        <p:spPr>
          <a:xfrm>
            <a:off x="762120" y="2282760"/>
            <a:ext cx="76737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As experiências no Brasil são tão recentes que somente em 1999/2000 começaram a ser objeto de avaliação e lançamento de um segundo ciclo de planejament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Brasil  em relação à área específica de tecnologias   de informação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Recentemente, o MCT (Ministério da Ciência e Tecnologia) principiou a preparar as   bases   para  um  estudo  como  o  Foresight  no  Brasi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359800" y="6247800"/>
            <a:ext cx="457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Times New Roman"/>
              </a:rPr>
              <a:t>UFMS - Sistemas de Informação - Prof.º Turi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441800" y="1141920"/>
            <a:ext cx="6276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Prospecção de Tecnologia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6212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33"/>
                </a:solidFill>
                <a:latin typeface="Arial Narrow"/>
              </a:rPr>
              <a:t>P&amp;D Tecnologias-Chave e Aplicações</a:t>
            </a:r>
            <a:endParaRPr b="0" lang="en-US" sz="2000" spc="-1" strike="noStrike">
              <a:solidFill>
                <a:srgbClr val="ff9900"/>
              </a:solidFill>
              <a:latin typeface="Arial Narrow"/>
            </a:endParaRPr>
          </a:p>
        </p:txBody>
      </p:sp>
      <p:sp>
        <p:nvSpPr>
          <p:cNvPr id="152" name=""/>
          <p:cNvSpPr/>
          <p:nvPr/>
        </p:nvSpPr>
        <p:spPr>
          <a:xfrm>
            <a:off x="762120" y="2664000"/>
            <a:ext cx="7750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Brasil em todas as áreas há atualmente  em  torno  de  83  mil  profissionais – cerca  de 68% atuam nas universidades e apenas 11% exercem suas atividades em centros de pesquisa de empresas privada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Brasil há alguns poucos centros de pesquisa onde se realizam atividades de P&amp;D relacionadas ao setor de tecnologia de informaçã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359800" y="6247800"/>
            <a:ext cx="457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Times New Roman"/>
              </a:rPr>
              <a:t>UFMS - Sistemas de Informação - Prof.º Turi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523880" y="989280"/>
            <a:ext cx="61246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Capacidade para Pesquisa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e Desenvolvimento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6212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33"/>
                </a:solidFill>
                <a:latin typeface="Arial Narrow"/>
              </a:rPr>
              <a:t>P&amp;D Tecnologias-Chave e Aplicações</a:t>
            </a:r>
            <a:endParaRPr b="0" lang="en-US" sz="2000" spc="-1" strike="noStrike">
              <a:solidFill>
                <a:srgbClr val="ff9900"/>
              </a:solidFill>
              <a:latin typeface="Arial Narrow"/>
            </a:endParaRPr>
          </a:p>
        </p:txBody>
      </p:sp>
      <p:sp>
        <p:nvSpPr>
          <p:cNvPr id="156" name=""/>
          <p:cNvSpPr/>
          <p:nvPr/>
        </p:nvSpPr>
        <p:spPr>
          <a:xfrm>
            <a:off x="609480" y="2206080"/>
            <a:ext cx="7902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O financiamento à atividade de P&amp;D é ainda predominantemente oriundo de fonte governamenta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Nos  anos  recentes,  pôde-se  observar   um  crescimento  significativo  nos investimentos em P&amp;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De acordo com dados da Sepin, no  ano de 1999 foram contabilizados recursos no montante de R$ 600 milhões, aplicados em P&amp;D pelas empresas incentivadas, dos quais R$ 225 milhões correspondem à parcela destinada a projetos em colaboração com universidades e centros de pesquis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59800" y="6247800"/>
            <a:ext cx="457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Times New Roman"/>
              </a:rPr>
              <a:t>UFMS - Sistemas de Informação - Prof.º Turi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127880" y="989640"/>
            <a:ext cx="6868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De onde vem o investimento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6212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33"/>
                </a:solidFill>
                <a:latin typeface="Arial Narrow"/>
              </a:rPr>
              <a:t>P&amp;D Tecnologias-Chave e Aplicações</a:t>
            </a:r>
            <a:endParaRPr b="0" lang="en-US" sz="2000" spc="-1" strike="noStrike">
              <a:solidFill>
                <a:srgbClr val="ff9900"/>
              </a:solidFill>
              <a:latin typeface="Arial Narrow"/>
            </a:endParaRPr>
          </a:p>
        </p:txBody>
      </p:sp>
      <p:sp>
        <p:nvSpPr>
          <p:cNvPr id="160" name=""/>
          <p:cNvSpPr/>
          <p:nvPr/>
        </p:nvSpPr>
        <p:spPr>
          <a:xfrm>
            <a:off x="609480" y="2038320"/>
            <a:ext cx="8001000" cy="278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- Iniciativas Cooperativas em Tecnologia de Informação e Comunicação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- Programa Genoma da FAPESP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- Articulação Universidade-Indústria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- Oportunidades em Tecnologias Capacitador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359800" y="6247800"/>
            <a:ext cx="457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Times New Roman"/>
              </a:rPr>
              <a:t>UFMS - Sistemas de Informação - Prof.º Turi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33520" y="1838880"/>
            <a:ext cx="81532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buClr>
                <a:srgbClr val="ffffff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ermo genérico usado para a próxima geração de sistemas de comunicação móvel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buClr>
                <a:srgbClr val="ffffff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isam prover, aos usuários, melhores serviços de transmissão de voz, texto e dado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buClr>
                <a:srgbClr val="ffffff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cremento substancial na capacidade, qualidade e velocidade em relação aos sistemas hoje disponívei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buClr>
                <a:srgbClr val="ffffff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ransmissão de vídeo em tempo real, aplicações multimídia de alta velocidade e acesso móvel à Interne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buClr>
                <a:srgbClr val="ffffff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rande mérito destas redes é a capacidade aumentada para serviços de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ransmissão de voz em alta qualidad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buClr>
                <a:srgbClr val="ffffff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des sem fio 3G é uma nova e promissora área de pesquis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91332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Comunicação Celular de 3ª Geração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6212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33"/>
                </a:solidFill>
                <a:latin typeface="Arial Narrow"/>
              </a:rPr>
              <a:t>P&amp;D Tecnologias-Chave e Aplicações</a:t>
            </a:r>
            <a:endParaRPr b="0" lang="en-US" sz="2000" spc="-1" strike="noStrike">
              <a:solidFill>
                <a:srgbClr val="ff9900"/>
              </a:solidFill>
              <a:latin typeface="Arial Narrow"/>
            </a:endParaRPr>
          </a:p>
        </p:txBody>
      </p:sp>
      <p:sp>
        <p:nvSpPr>
          <p:cNvPr id="165" name=""/>
          <p:cNvSpPr/>
          <p:nvPr/>
        </p:nvSpPr>
        <p:spPr>
          <a:xfrm>
            <a:off x="2359800" y="6247800"/>
            <a:ext cx="457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Times New Roman"/>
              </a:rPr>
              <a:t>UFMS - Sistemas de Informação - Prof.º Turi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6212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33"/>
                </a:solidFill>
                <a:latin typeface="Arial Narrow"/>
              </a:rPr>
              <a:t>P&amp;D Tecnologias-Chave e Aplicações</a:t>
            </a:r>
            <a:endParaRPr b="0" lang="en-US" sz="2000" spc="-1" strike="noStrike">
              <a:solidFill>
                <a:srgbClr val="ff9900"/>
              </a:solidFill>
              <a:latin typeface="Arial Narrow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2495520"/>
            <a:ext cx="7467480" cy="278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O acesso a Internet via telefone celular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buClr>
                <a:srgbClr val="ffffff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Linguagem WM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buClr>
                <a:srgbClr val="ffffff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O WAP é mais um </a:t>
            </a:r>
            <a:r>
              <a:rPr b="1" lang="pt-BR" sz="2400" spc="-1" strike="noStrike" u="sng">
                <a:solidFill>
                  <a:srgbClr val="ffffff"/>
                </a:solidFill>
                <a:uFillTx/>
                <a:latin typeface="Times New Roman"/>
              </a:rPr>
              <a:t>modismo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 do que necessidade rea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buClr>
                <a:srgbClr val="ffffff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A conexão da Internet via celular é uma tendência a curto prazo, pois certamente o padrão não é seguro neste cenári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359800" y="6247800"/>
            <a:ext cx="457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Times New Roman"/>
              </a:rPr>
              <a:t>UFMS - Sistemas de Informação - Prof.º Turi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99520" y="1294200"/>
            <a:ext cx="8667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9900"/>
                </a:solidFill>
                <a:latin typeface="Times New Roman"/>
              </a:rPr>
              <a:t>Wireless Application Protocol - WAP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6212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33"/>
                </a:solidFill>
                <a:latin typeface="Arial Narrow"/>
              </a:rPr>
              <a:t>P&amp;D Tecnologias-Chave e Aplicações</a:t>
            </a:r>
            <a:endParaRPr b="0" lang="en-US" sz="2000" spc="-1" strike="noStrike">
              <a:solidFill>
                <a:srgbClr val="ff9900"/>
              </a:solidFill>
              <a:latin typeface="Arial Narrow"/>
            </a:endParaRPr>
          </a:p>
        </p:txBody>
      </p:sp>
      <p:sp>
        <p:nvSpPr>
          <p:cNvPr id="171" name=""/>
          <p:cNvSpPr/>
          <p:nvPr/>
        </p:nvSpPr>
        <p:spPr>
          <a:xfrm>
            <a:off x="609480" y="2816640"/>
            <a:ext cx="7925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buClr>
                <a:srgbClr val="ffffff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resceu na década de 80 com os editores de texto e a automação de escritório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buClr>
                <a:srgbClr val="ffffff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m o rápido crescimento da Internet, os processadores de texto voltaram a ser bastante utilizados, principalmente para a disponibilização de conteúdos na Interne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359800" y="6247800"/>
            <a:ext cx="457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Times New Roman"/>
              </a:rPr>
              <a:t>UFMS - Sistemas de Informação - Prof.º Turi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91040" y="989280"/>
            <a:ext cx="8222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Processamento de textos no mundo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Interne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6212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33"/>
                </a:solidFill>
                <a:latin typeface="Arial Narrow"/>
              </a:rPr>
              <a:t>P&amp;D Tecnologias-Chave e Aplicações</a:t>
            </a:r>
            <a:endParaRPr b="0" lang="en-US" sz="2000" spc="-1" strike="noStrike">
              <a:solidFill>
                <a:srgbClr val="ff9900"/>
              </a:solidFill>
              <a:latin typeface="Arial Narrow"/>
            </a:endParaRPr>
          </a:p>
        </p:txBody>
      </p:sp>
      <p:sp>
        <p:nvSpPr>
          <p:cNvPr id="175" name=""/>
          <p:cNvSpPr/>
          <p:nvPr/>
        </p:nvSpPr>
        <p:spPr>
          <a:xfrm>
            <a:off x="2359800" y="6247800"/>
            <a:ext cx="457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Times New Roman"/>
              </a:rPr>
              <a:t>UFMS - Sistemas de Informação - Prof.º Turi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45960" y="1324440"/>
            <a:ext cx="8512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Processamento de imagem e robótic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143000" y="2396520"/>
            <a:ext cx="5181480" cy="33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75000"/>
              </a:lnSpc>
              <a:buClr>
                <a:srgbClr val="ffffff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Monitoramento do meio ambien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buClr>
                <a:srgbClr val="ffffff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buClr>
                <a:srgbClr val="ffffff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Agricultura de precisã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buClr>
                <a:srgbClr val="ffffff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buClr>
                <a:srgbClr val="ffffff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Geoprocessamen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No Brasil área mais aplicada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buClr>
                <a:srgbClr val="ffffff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Monitoramento de tráfeg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buClr>
                <a:srgbClr val="ffffff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buClr>
                <a:srgbClr val="ffffff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Planejamento urban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6212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33"/>
                </a:solidFill>
                <a:latin typeface="Arial Narrow"/>
              </a:rPr>
              <a:t>P&amp;D Tecnologias-Chave e Aplicações</a:t>
            </a:r>
            <a:endParaRPr b="0" lang="en-US" sz="2000" spc="-1" strike="noStrike">
              <a:solidFill>
                <a:srgbClr val="ff9900"/>
              </a:solidFill>
              <a:latin typeface="Arial Narrow"/>
            </a:endParaRPr>
          </a:p>
        </p:txBody>
      </p:sp>
      <p:sp>
        <p:nvSpPr>
          <p:cNvPr id="179" name=""/>
          <p:cNvSpPr/>
          <p:nvPr/>
        </p:nvSpPr>
        <p:spPr>
          <a:xfrm>
            <a:off x="2359800" y="6247800"/>
            <a:ext cx="457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Times New Roman"/>
              </a:rPr>
              <a:t>UFMS - Sistemas de Informação - Prof.º Turi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144240" y="1324440"/>
            <a:ext cx="291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Criptografi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990720" y="2433960"/>
            <a:ext cx="7467480" cy="28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75000"/>
              </a:lnSpc>
              <a:buClr>
                <a:srgbClr val="ffffff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isa aumentar a privacidade nas comunicaçõ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buClr>
                <a:srgbClr val="ffffff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buClr>
                <a:srgbClr val="ffffff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utenticidade dos autor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buClr>
                <a:srgbClr val="ffffff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fiabilidade nos serviços oferecidos pelos sistemas integrados por telecomunicações e redes de computadores com que trabalham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761760" y="251460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Arial"/>
              </a:rPr>
              <a:t>P&amp;D TECNOLOGIAS-CHAVE E APLICAÇÕ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76212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33"/>
                </a:solidFill>
                <a:latin typeface="Arial Narrow"/>
              </a:rPr>
              <a:t>P&amp;D Tecnologias-Chave e Aplicações</a:t>
            </a:r>
            <a:endParaRPr b="0" lang="en-US" sz="2000" spc="-1" strike="noStrike">
              <a:solidFill>
                <a:srgbClr val="ff9900"/>
              </a:solidFill>
              <a:latin typeface="Arial Narrow"/>
            </a:endParaRPr>
          </a:p>
        </p:txBody>
      </p:sp>
      <p:sp>
        <p:nvSpPr>
          <p:cNvPr id="183" name=""/>
          <p:cNvSpPr/>
          <p:nvPr/>
        </p:nvSpPr>
        <p:spPr>
          <a:xfrm>
            <a:off x="609480" y="2393280"/>
            <a:ext cx="7925040" cy="31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Geoprocessamento = uso automatizado de informação vinculada a um determinado lugar no espaç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Manipulam dados ou informações e são  representados em um mapa, como casas, escolas, hospitais, etc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buClr>
                <a:srgbClr val="ffffff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gricultura de precisão – EMBRAP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buClr>
                <a:srgbClr val="ffffff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buClr>
                <a:srgbClr val="ffffff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visão tecnológica – INP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359800" y="6247800"/>
            <a:ext cx="457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Times New Roman"/>
              </a:rPr>
              <a:t>UFMS - Sistemas de Informação - Prof.º Turi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435400" y="1370520"/>
            <a:ext cx="4440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Geoprocessamento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6212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33"/>
                </a:solidFill>
                <a:latin typeface="Arial Narrow"/>
              </a:rPr>
              <a:t>P&amp;D Tecnologias-Chave e Aplicações</a:t>
            </a:r>
            <a:endParaRPr b="0" lang="en-US" sz="2000" spc="-1" strike="noStrike">
              <a:solidFill>
                <a:srgbClr val="ff9900"/>
              </a:solidFill>
              <a:latin typeface="Arial Narrow"/>
            </a:endParaRPr>
          </a:p>
        </p:txBody>
      </p:sp>
      <p:sp>
        <p:nvSpPr>
          <p:cNvPr id="187" name=""/>
          <p:cNvSpPr/>
          <p:nvPr/>
        </p:nvSpPr>
        <p:spPr>
          <a:xfrm>
            <a:off x="1752480" y="2573640"/>
            <a:ext cx="6172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rescente busca no Brasil por certas áreas como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mputação gráfica que necessita de hardware e software de alto desempenh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359800" y="6247800"/>
            <a:ext cx="457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Times New Roman"/>
              </a:rPr>
              <a:t>UFMS - Sistemas de Informação - Prof.º Turi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38920" y="1324440"/>
            <a:ext cx="8127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Processamento de alto desempenho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76212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33"/>
                </a:solidFill>
                <a:latin typeface="Arial Narrow"/>
              </a:rPr>
              <a:t>P&amp;D Tecnologias-Chave e Aplicações</a:t>
            </a:r>
            <a:endParaRPr b="0" lang="en-US" sz="2000" spc="-1" strike="noStrike">
              <a:solidFill>
                <a:srgbClr val="ff9900"/>
              </a:solidFill>
              <a:latin typeface="Arial Narrow"/>
            </a:endParaRPr>
          </a:p>
        </p:txBody>
      </p:sp>
      <p:sp>
        <p:nvSpPr>
          <p:cNvPr id="191" name=""/>
          <p:cNvSpPr/>
          <p:nvPr/>
        </p:nvSpPr>
        <p:spPr>
          <a:xfrm>
            <a:off x="1447920" y="2710440"/>
            <a:ext cx="6553080" cy="180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  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A telemedicina é uma forma de se prestar assistência médica quando o paciente está fisicamente distante do médico.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75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75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uturo promiss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359800" y="6247800"/>
            <a:ext cx="457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Times New Roman"/>
              </a:rPr>
              <a:t>UFMS - Sistemas de Informação - Prof.º Turi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971080" y="1370520"/>
            <a:ext cx="3225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Telemedicin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76212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33"/>
                </a:solidFill>
                <a:latin typeface="Arial Narrow"/>
              </a:rPr>
              <a:t>P&amp;D Tecnologias-Chave e Aplicações</a:t>
            </a:r>
            <a:endParaRPr b="0" lang="en-US" sz="2000" spc="-1" strike="noStrike">
              <a:solidFill>
                <a:srgbClr val="ff9900"/>
              </a:solidFill>
              <a:latin typeface="Arial Narrow"/>
            </a:endParaRPr>
          </a:p>
        </p:txBody>
      </p:sp>
      <p:sp>
        <p:nvSpPr>
          <p:cNvPr id="195" name=""/>
          <p:cNvSpPr/>
          <p:nvPr/>
        </p:nvSpPr>
        <p:spPr>
          <a:xfrm>
            <a:off x="1752480" y="3040560"/>
            <a:ext cx="5715000" cy="18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75000"/>
              </a:lnSpc>
              <a:buClr>
                <a:srgbClr val="ffffff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uto cus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500"/>
              </a:spcBef>
              <a:buClr>
                <a:srgbClr val="ffffff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stemas de televisão totalmente digitai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500"/>
              </a:spcBef>
              <a:buClr>
                <a:srgbClr val="ffffff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ta tecnologi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359800" y="6247800"/>
            <a:ext cx="457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Times New Roman"/>
              </a:rPr>
              <a:t>UFMS - Sistemas de Informação - Prof.º Turi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502640" y="1324440"/>
            <a:ext cx="6197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Televisão de alta definição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76212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33"/>
                </a:solidFill>
                <a:latin typeface="Arial Narrow"/>
              </a:rPr>
              <a:t>P&amp;D Tecnologias-Chave e Aplicações</a:t>
            </a:r>
            <a:endParaRPr b="0" lang="en-US" sz="2000" spc="-1" strike="noStrike">
              <a:solidFill>
                <a:srgbClr val="ff9900"/>
              </a:solidFill>
              <a:latin typeface="Arial Narrow"/>
            </a:endParaRPr>
          </a:p>
        </p:txBody>
      </p:sp>
      <p:sp>
        <p:nvSpPr>
          <p:cNvPr id="199" name=""/>
          <p:cNvSpPr/>
          <p:nvPr/>
        </p:nvSpPr>
        <p:spPr>
          <a:xfrm>
            <a:off x="533520" y="2187720"/>
            <a:ext cx="8610480" cy="30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Courier New"/>
              </a:rPr>
              <a:t> 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Courier New"/>
              </a:rPr>
              <a:t>Preparar Um Salto Tecnológico Para 200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Courier New"/>
              </a:rPr>
              <a:t>Condições: informática/telecomunicações – suas aplicaçõ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Courier New"/>
              </a:rPr>
              <a:t>Impacto - forma e escala de produção de bens e serviç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Courier New"/>
              </a:rPr>
              <a:t>Incorporação - tecnologias de informação e comunicaçã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Courier New"/>
              </a:rPr>
              <a:t>Planejamen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359800" y="6247800"/>
            <a:ext cx="457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Times New Roman"/>
              </a:rPr>
              <a:t>UFMS - Sistemas de Informação - Prof.º Turi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406600" y="1141920"/>
            <a:ext cx="4254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Para onde vamos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76212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33"/>
                </a:solidFill>
                <a:latin typeface="Arial Narrow"/>
              </a:rPr>
              <a:t>P&amp;D Tecnologias-Chave e Aplicações</a:t>
            </a:r>
            <a:endParaRPr b="0" lang="en-US" sz="2000" spc="-1" strike="noStrike">
              <a:solidFill>
                <a:srgbClr val="ff9900"/>
              </a:solidFill>
              <a:latin typeface="Arial Narrow"/>
            </a:endParaRPr>
          </a:p>
        </p:txBody>
      </p:sp>
      <p:sp>
        <p:nvSpPr>
          <p:cNvPr id="203" name=""/>
          <p:cNvSpPr/>
          <p:nvPr/>
        </p:nvSpPr>
        <p:spPr>
          <a:xfrm>
            <a:off x="533520" y="1001160"/>
            <a:ext cx="861048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Courier New"/>
              </a:rPr>
              <a:t>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Courier New"/>
              </a:rPr>
              <a:t>Identificar Tecnologias-chav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SzPct val="10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Courier New"/>
              </a:rPr>
              <a:t>Investimento prioritár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SzPct val="10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Courier New"/>
              </a:rPr>
              <a:t>esquisa básica e formação de recursos human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SzPct val="10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Courier New"/>
              </a:rPr>
              <a:t>etodologia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828800" indent="-457200">
              <a:lnSpc>
                <a:spcPct val="75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Courier New"/>
              </a:rPr>
              <a:t>Levantar/classificar/avaliar tecnologi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828800" indent="-457200">
              <a:lnSpc>
                <a:spcPct val="75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Courier New"/>
              </a:rPr>
              <a:t>Avaliar/aferir opiniõ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828800" indent="-457200">
              <a:lnSpc>
                <a:spcPct val="75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Courier New"/>
              </a:rPr>
              <a:t>Descrever/avaliar cenári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SzPct val="10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Courier New"/>
              </a:rPr>
              <a:t>Processo de filtragem de tecnologias-chav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359800" y="6247800"/>
            <a:ext cx="457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Times New Roman"/>
              </a:rPr>
              <a:t>UFMS - Sistemas de Informação - Prof.º Turi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76212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33"/>
                </a:solidFill>
                <a:latin typeface="Arial Narrow"/>
              </a:rPr>
              <a:t>P&amp;D Tecnologias-Chave e Aplicações</a:t>
            </a:r>
            <a:endParaRPr b="0" lang="en-US" sz="2000" spc="-1" strike="noStrike">
              <a:solidFill>
                <a:srgbClr val="ff9900"/>
              </a:solidFill>
              <a:latin typeface="Arial Narrow"/>
            </a:endParaRPr>
          </a:p>
        </p:txBody>
      </p:sp>
      <p:sp>
        <p:nvSpPr>
          <p:cNvPr id="206" name=""/>
          <p:cNvSpPr/>
          <p:nvPr/>
        </p:nvSpPr>
        <p:spPr>
          <a:xfrm>
            <a:off x="533520" y="938520"/>
            <a:ext cx="8610480" cy="46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  <a:ea typeface="Courier New"/>
              </a:rPr>
              <a:t> </a:t>
            </a:r>
            <a:r>
              <a:rPr b="1" lang="pt-BR" sz="2400" spc="-1" strike="noStrike" u="sng">
                <a:solidFill>
                  <a:srgbClr val="ffffff"/>
                </a:solidFill>
                <a:uFillTx/>
                <a:latin typeface="Times New Roman"/>
                <a:ea typeface="Courier New"/>
              </a:rPr>
              <a:t>Consolidar Um Modelo De Pesquisa Consorciada E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  <a:ea typeface="Courier New"/>
              </a:rPr>
              <a:t>        </a:t>
            </a:r>
            <a:r>
              <a:rPr b="1" lang="pt-BR" sz="2400" spc="-1" strike="noStrike" u="sng">
                <a:solidFill>
                  <a:srgbClr val="ffffff"/>
                </a:solidFill>
                <a:uFillTx/>
                <a:latin typeface="Times New Roman"/>
                <a:ea typeface="Courier New"/>
              </a:rPr>
              <a:t>Tecnologias-chav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SzPct val="10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  <a:ea typeface="Courier New"/>
              </a:rPr>
              <a:t>Instituições brasil/exteri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1600" indent="-457200">
              <a:lnSpc>
                <a:spcPct val="75000"/>
              </a:lnSpc>
              <a:spcBef>
                <a:spcPts val="1500"/>
              </a:spcBef>
              <a:buClr>
                <a:srgbClr val="ffffff"/>
              </a:buClr>
              <a:buSzPct val="10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  <a:ea typeface="Courier New"/>
              </a:rPr>
              <a:t>Resolução de problemas antes de lançamentos de projeto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1600" indent="-457200">
              <a:lnSpc>
                <a:spcPct val="50000"/>
              </a:lnSpc>
              <a:spcBef>
                <a:spcPts val="56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4" marL="2286000" indent="-457200">
              <a:lnSpc>
                <a:spcPct val="50000"/>
              </a:lnSpc>
              <a:spcBef>
                <a:spcPts val="1500"/>
              </a:spcBef>
              <a:buClr>
                <a:srgbClr val="ffffff"/>
              </a:buClr>
              <a:buSzPct val="105000"/>
              <a:buFont typeface="Times New Roman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  <a:ea typeface="Courier New"/>
              </a:rPr>
              <a:t>Financiamen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4" marL="2286000" indent="-457200">
              <a:lnSpc>
                <a:spcPct val="50000"/>
              </a:lnSpc>
              <a:spcBef>
                <a:spcPts val="1500"/>
              </a:spcBef>
              <a:buClr>
                <a:srgbClr val="ffffff"/>
              </a:buClr>
              <a:buSzPct val="105000"/>
              <a:buFont typeface="Times New Roman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  <a:ea typeface="Courier New"/>
              </a:rPr>
              <a:t>Acompanhamento de atividad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4" marL="2286000" indent="-457200">
              <a:lnSpc>
                <a:spcPct val="50000"/>
              </a:lnSpc>
              <a:spcBef>
                <a:spcPts val="1500"/>
              </a:spcBef>
              <a:buClr>
                <a:srgbClr val="ffffff"/>
              </a:buClr>
              <a:buSzPct val="105000"/>
              <a:buFont typeface="Times New Roman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  <a:ea typeface="Courier New"/>
              </a:rPr>
              <a:t>Empacotamento de resultad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4" marL="2286000" indent="-457200">
              <a:lnSpc>
                <a:spcPct val="50000"/>
              </a:lnSpc>
              <a:spcBef>
                <a:spcPts val="1500"/>
              </a:spcBef>
              <a:buClr>
                <a:srgbClr val="ffffff"/>
              </a:buClr>
              <a:buSzPct val="105000"/>
              <a:buFont typeface="Times New Roman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  <a:ea typeface="Courier New"/>
              </a:rPr>
              <a:t>Transferência de tecnolog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4" marL="2286000" indent="-457200">
              <a:lnSpc>
                <a:spcPct val="50000"/>
              </a:lnSpc>
              <a:spcBef>
                <a:spcPts val="1500"/>
              </a:spcBef>
              <a:buClr>
                <a:srgbClr val="ffffff"/>
              </a:buClr>
              <a:buSzPct val="105000"/>
              <a:buFont typeface="Times New Roman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  <a:ea typeface="Courier New"/>
              </a:rPr>
              <a:t>Compartilhamento de resultad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359800" y="6247800"/>
            <a:ext cx="457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Times New Roman"/>
              </a:rPr>
              <a:t>UFMS - Sistemas de Informação - Prof.º Turi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76212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33"/>
                </a:solidFill>
                <a:latin typeface="Arial Narrow"/>
              </a:rPr>
              <a:t>P&amp;D Tecnologias-Chave e Aplicações</a:t>
            </a:r>
            <a:endParaRPr b="0" lang="en-US" sz="2000" spc="-1" strike="noStrike">
              <a:solidFill>
                <a:srgbClr val="ff9900"/>
              </a:solidFill>
              <a:latin typeface="Arial Narrow"/>
            </a:endParaRPr>
          </a:p>
        </p:txBody>
      </p:sp>
      <p:sp>
        <p:nvSpPr>
          <p:cNvPr id="209" name=""/>
          <p:cNvSpPr/>
          <p:nvPr/>
        </p:nvSpPr>
        <p:spPr>
          <a:xfrm>
            <a:off x="533520" y="655920"/>
            <a:ext cx="8610480" cy="52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Courier New"/>
              </a:rPr>
              <a:t>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Courier New"/>
              </a:rPr>
              <a:t>Ampliar Significativamente a Capacidade Instalada de P&amp;d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Courier New"/>
              </a:rPr>
              <a:t>        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Courier New"/>
              </a:rPr>
              <a:t>no País e a Integração entre Universidade e Indústr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Courier New"/>
              </a:rPr>
              <a:t>Infra-estrutura de P&amp;D – universidades/empres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Courier New"/>
              </a:rPr>
              <a:t>Suporte aos programas de pós-graduaçã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Courier New"/>
              </a:rPr>
              <a:t>Criação de projetos – formação integrada recursos humanos / tecnologias de informaçã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Courier New"/>
              </a:rPr>
              <a:t>Iniciativas cooperativas – atividades de P&amp;D nas empresas: equipes permanen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Courier New"/>
              </a:rPr>
              <a:t>Incentivos/mecanismos: parceria universidades/centros de pesquisa e empresas: oportunidades científicas/industria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359800" y="6247800"/>
            <a:ext cx="457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Times New Roman"/>
              </a:rPr>
              <a:t>UFMS - Sistemas de Informação - Prof.º Turi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76212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33"/>
                </a:solidFill>
                <a:latin typeface="Arial Narrow"/>
              </a:rPr>
              <a:t>P&amp;D Tecnologias-Chave e Aplicações</a:t>
            </a:r>
            <a:endParaRPr b="0" lang="en-US" sz="2000" spc="-1" strike="noStrike">
              <a:solidFill>
                <a:srgbClr val="ff9900"/>
              </a:solidFill>
              <a:latin typeface="Arial Narrow"/>
            </a:endParaRPr>
          </a:p>
        </p:txBody>
      </p:sp>
      <p:sp>
        <p:nvSpPr>
          <p:cNvPr id="213" name=""/>
          <p:cNvSpPr/>
          <p:nvPr/>
        </p:nvSpPr>
        <p:spPr>
          <a:xfrm>
            <a:off x="533520" y="2025720"/>
            <a:ext cx="7924680" cy="24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Courier New"/>
              </a:rPr>
              <a:t>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Courier New"/>
              </a:rPr>
              <a:t>Quadro Jurídic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Courier New"/>
              </a:rPr>
              <a:t>Consórcios de P&amp;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Courier New"/>
              </a:rPr>
              <a:t>Propriedade intelectual - transferência de tecnologia - órgãos de fomen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359800" y="6247800"/>
            <a:ext cx="457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Times New Roman"/>
              </a:rPr>
              <a:t>UFMS - Sistemas de Informação - Prof.º Turi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969640" y="1141920"/>
            <a:ext cx="3039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O que fazer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685800" y="1290240"/>
            <a:ext cx="81532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 que se trat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cnologias e Aplicaçõ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dentificação de Tecnologias-Chav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vos Modelos de P&amp;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de Estamo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specção de Tecnologi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pacidade Instalada para Pesquisa e Desenvolvimen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iciativas Cooperativas em TI e Comunicaçã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grama Genom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ticulação Universidade – Indústr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ortunidades em Tecnologias Capacitador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ra onde vam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que fazer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581280" y="379800"/>
            <a:ext cx="1954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Sinóps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76212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33"/>
                </a:solidFill>
                <a:latin typeface="Arial Narrow"/>
              </a:rPr>
              <a:t>P&amp;D Tecnologias-Chave e Aplicações</a:t>
            </a:r>
            <a:endParaRPr b="0" lang="en-US" sz="2000" spc="-1" strike="noStrike">
              <a:solidFill>
                <a:srgbClr val="ff9900"/>
              </a:solidFill>
              <a:latin typeface="Arial Narrow"/>
            </a:endParaRPr>
          </a:p>
        </p:txBody>
      </p:sp>
      <p:sp>
        <p:nvSpPr>
          <p:cNvPr id="217" name=""/>
          <p:cNvSpPr/>
          <p:nvPr/>
        </p:nvSpPr>
        <p:spPr>
          <a:xfrm>
            <a:off x="533520" y="991080"/>
            <a:ext cx="8610480" cy="52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ffffff"/>
                </a:solidFill>
                <a:uFillTx/>
                <a:latin typeface="Times New Roman"/>
                <a:ea typeface="Courier New"/>
              </a:rPr>
              <a:t>Ações Estruturador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  <a:ea typeface="Courier New"/>
              </a:rPr>
              <a:t> 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  <a:ea typeface="Courier New"/>
              </a:rPr>
              <a:t>Propriedade intelectual - transferência de tecnologia - órgãos de fomen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  <a:ea typeface="Courier New"/>
              </a:rPr>
              <a:t> 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  <a:ea typeface="Courier New"/>
              </a:rPr>
              <a:t>Dez tecnologias-chave - quatro anos maturação – consolidar amplo us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  <a:ea typeface="Courier New"/>
              </a:rPr>
              <a:t> 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  <a:ea typeface="Courier New"/>
              </a:rPr>
              <a:t>Montagem/financiamento de dois consórcios: concorrência na mesma tecnologia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6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  <a:ea typeface="Courier New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  <a:ea typeface="Courier New"/>
              </a:rPr>
              <a:t>1. dois grupos de P&amp;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6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  <a:ea typeface="Courier New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  <a:ea typeface="Courier New"/>
              </a:rPr>
              <a:t>2. duas empres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6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  <a:ea typeface="Courier New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  <a:ea typeface="Courier New"/>
              </a:rPr>
              <a:t>3. dois grupos cooperantes no exteri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359800" y="6247800"/>
            <a:ext cx="457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Times New Roman"/>
              </a:rPr>
              <a:t>UFMS - Sistemas de Informação - Prof.º Turi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76212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33"/>
                </a:solidFill>
                <a:latin typeface="Arial Narrow"/>
              </a:rPr>
              <a:t>P&amp;D Tecnologias-Chave e Aplicações</a:t>
            </a:r>
            <a:endParaRPr b="0" lang="en-US" sz="2000" spc="-1" strike="noStrike">
              <a:solidFill>
                <a:srgbClr val="ff9900"/>
              </a:solidFill>
              <a:latin typeface="Arial Narrow"/>
            </a:endParaRPr>
          </a:p>
        </p:txBody>
      </p:sp>
      <p:sp>
        <p:nvSpPr>
          <p:cNvPr id="220" name=""/>
          <p:cNvSpPr/>
          <p:nvPr/>
        </p:nvSpPr>
        <p:spPr>
          <a:xfrm>
            <a:off x="533520" y="1303200"/>
            <a:ext cx="8001000" cy="39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Courier New"/>
              </a:rPr>
              <a:t>Agências de fomento: incentivo e desenvolvimento de projetos cooperativ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Courier New"/>
              </a:rPr>
              <a:t>Consórcios para desenvolvimento – tecnologias capacitadoras/emergente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Courier New"/>
              </a:rPr>
              <a:t>1. Aplicações de alcance soc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Courier New"/>
              </a:rPr>
              <a:t>2. Impacto industr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Courier New"/>
              </a:rPr>
              <a:t>3. Resultados num curto praz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359800" y="6247800"/>
            <a:ext cx="457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Times New Roman"/>
              </a:rPr>
              <a:t>UFMS - Sistemas de Informação - Prof.º Turi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76212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33"/>
                </a:solidFill>
                <a:latin typeface="Arial Narrow"/>
              </a:rPr>
              <a:t>P&amp;D Tecnologias-Chave e Aplicações</a:t>
            </a:r>
            <a:endParaRPr b="0" lang="en-US" sz="2000" spc="-1" strike="noStrike">
              <a:solidFill>
                <a:srgbClr val="ff9900"/>
              </a:solidFill>
              <a:latin typeface="Arial Narrow"/>
            </a:endParaRPr>
          </a:p>
        </p:txBody>
      </p:sp>
      <p:sp>
        <p:nvSpPr>
          <p:cNvPr id="223" name=""/>
          <p:cNvSpPr/>
          <p:nvPr/>
        </p:nvSpPr>
        <p:spPr>
          <a:xfrm>
            <a:off x="533520" y="1762200"/>
            <a:ext cx="8610480" cy="305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  <a:ea typeface="Courier New"/>
              </a:rPr>
              <a:t> 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  <a:ea typeface="Courier New"/>
              </a:rPr>
              <a:t>Projetos Multidisciplinare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  <a:ea typeface="Courier New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  <a:ea typeface="Courier New"/>
              </a:rPr>
              <a:t>1. Desenvolvimento de infra-estrutura (transportes, me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  <a:ea typeface="Courier New"/>
              </a:rPr>
              <a:t>                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  <a:ea typeface="Courier New"/>
              </a:rPr>
              <a:t>ambiente, saúde, educação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  <a:ea typeface="Courier New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  <a:ea typeface="Courier New"/>
              </a:rPr>
              <a:t>2. Emprego de redes eletrônic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  <a:ea typeface="Courier New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  <a:ea typeface="Courier New"/>
              </a:rPr>
              <a:t>3. Cooperação de instituições/operação em múltiplos síti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359800" y="6247800"/>
            <a:ext cx="457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Times New Roman"/>
              </a:rPr>
              <a:t>UFMS - Sistemas de Informação - Prof.º Turi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76212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33"/>
                </a:solidFill>
                <a:latin typeface="Arial Narrow"/>
              </a:rPr>
              <a:t>P&amp;D Tecnologias-Chave e Aplicações</a:t>
            </a:r>
            <a:endParaRPr b="0" lang="en-US" sz="2000" spc="-1" strike="noStrike">
              <a:solidFill>
                <a:srgbClr val="ff9900"/>
              </a:solidFill>
              <a:latin typeface="Arial Narrow"/>
            </a:endParaRPr>
          </a:p>
        </p:txBody>
      </p:sp>
      <p:sp>
        <p:nvSpPr>
          <p:cNvPr id="226" name=""/>
          <p:cNvSpPr/>
          <p:nvPr/>
        </p:nvSpPr>
        <p:spPr>
          <a:xfrm>
            <a:off x="533520" y="950760"/>
            <a:ext cx="8610480" cy="49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  <a:ea typeface="Courier New"/>
              </a:rPr>
              <a:t> </a:t>
            </a:r>
            <a:r>
              <a:rPr b="1" lang="pt-BR" sz="2400" spc="-1" strike="noStrike" u="sng">
                <a:solidFill>
                  <a:srgbClr val="ffffff"/>
                </a:solidFill>
                <a:uFillTx/>
                <a:latin typeface="Times New Roman"/>
                <a:ea typeface="Courier New"/>
              </a:rPr>
              <a:t>Outras Açõ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  <a:ea typeface="Courier New"/>
              </a:rPr>
              <a:t> 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  <a:ea typeface="Courier New"/>
              </a:rPr>
              <a:t>Identificar barreira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  <a:ea typeface="Courier New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  <a:ea typeface="Courier New"/>
              </a:rPr>
              <a:t>1. Geração/integração/difusão – aplicações em áre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  <a:ea typeface="Courier New"/>
              </a:rPr>
              <a:t>                 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  <a:ea typeface="Courier New"/>
              </a:rPr>
              <a:t>estratégicas selecionad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  <a:ea typeface="Courier New"/>
              </a:rPr>
              <a:t> 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  <a:ea typeface="Courier New"/>
              </a:rPr>
              <a:t>Fomento interno/externo de aplicações para atacara tais barreir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  <a:ea typeface="Courier New"/>
              </a:rPr>
              <a:t> 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  <a:ea typeface="Courier New"/>
              </a:rPr>
              <a:t>Aumentar base de pesquisa – universidades – plano científic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  <a:ea typeface="Courier New"/>
              </a:rPr>
              <a:t> 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  <a:ea typeface="Courier New"/>
              </a:rPr>
              <a:t>Setor público e privado: mobilização em tecnologias-chave – universidades/empresas/centros de P&amp;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359800" y="6247800"/>
            <a:ext cx="457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Times New Roman"/>
              </a:rPr>
              <a:t>UFMS - Sistemas de Informação - Prof.º Turi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609480" y="1935720"/>
            <a:ext cx="8001000" cy="35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spcBef>
                <a:spcPts val="15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o conseqüência das novas tecnologias, a Sociedade da Informação (SI) está se desenvolvendo. Cada vez mais é preciso que o governo defina estratégias para acompanhar esse desenvolvimento tecnológico e informacional, com iniciativas de Pesquisa e Desenvolvimento (P&amp;D) em diversas área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É necessária uma infra-estrutura para gerar tecnologia e informação e apesar disso, o desenvolvimento é sempre incentivado. O Brasil, já alcançou alguns resultados desejáveis, visto que o mesmo é um país em desenvolvimento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046680" y="609480"/>
            <a:ext cx="254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Conclusão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1295280"/>
            <a:ext cx="7924680" cy="35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m dos serviços que merece destaque é a comunicação celular de terceira geração, que está se tornando cada vez mais ao alcance de todos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projeto Genoma da Fapesp, é um exemplo de trabalho cooperativo que nos serve como exemplo de que com trabalho e esforço é possível construir, aqui no Brasil, tecnologia que nos orgulham diante dos países desenvolvidos e que “teoricamente” possuem tecnologias mais avançadas do que as nossa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914400" y="1676520"/>
            <a:ext cx="746748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mentando a infra-estrutura do país para desenvolver tecnologias, </a:t>
            </a:r>
            <a:r>
              <a:rPr b="0" lang="en-US" sz="24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INCENTIVANDO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mais a pesquisa, é possível que o Brasil alcance o desenvolvimento adequado para as necessidades da populaçã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 por fim, vale lembrar que até pode-se ter a tecnologia nas mãos, mas para isso é preciso educação..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304920" y="1752480"/>
            <a:ext cx="8839080" cy="40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75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  <a:ea typeface="Courier New"/>
              </a:rPr>
              <a:t> </a:t>
            </a:r>
            <a:r>
              <a:rPr b="0" lang="pt-BR" sz="2400" spc="-1" strike="noStrike" u="sng">
                <a:solidFill>
                  <a:srgbClr val="ff9933"/>
                </a:solidFill>
                <a:uFillTx/>
                <a:latin typeface="Times New Roman"/>
                <a:ea typeface="Courier New"/>
                <a:hlinkClick r:id="rId1"/>
              </a:rPr>
              <a:t>http</a:t>
            </a:r>
            <a:r>
              <a:rPr b="0" lang="pt-BR" sz="2400" spc="-1" strike="noStrike" u="sng">
                <a:solidFill>
                  <a:srgbClr val="ff9933"/>
                </a:solidFill>
                <a:uFillTx/>
                <a:latin typeface="Times New Roman"/>
                <a:ea typeface="Courier New"/>
                <a:hlinkClick r:id="rId2"/>
              </a:rPr>
              <a:t>://www.mct.gov.br/temas/socinfo/livro_verde/c07.pd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75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  <a:ea typeface="Courier New"/>
              </a:rPr>
              <a:t> </a:t>
            </a:r>
            <a:r>
              <a:rPr b="0" lang="pt-BR" sz="2400" spc="-1" strike="noStrike" u="sng">
                <a:solidFill>
                  <a:srgbClr val="ff9933"/>
                </a:solidFill>
                <a:uFillTx/>
                <a:latin typeface="Times New Roman"/>
                <a:ea typeface="Courier New"/>
                <a:hlinkClick r:id="rId3"/>
              </a:rPr>
              <a:t>http://www.inf.unioeste.br/~cbrizzi/infsoc.ht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  <a:ea typeface="Courier New"/>
              </a:rPr>
              <a:t> </a:t>
            </a:r>
            <a:r>
              <a:rPr b="0" lang="pt-BR" sz="2400" spc="-1" strike="noStrike" u="sng">
                <a:solidFill>
                  <a:srgbClr val="ff9933"/>
                </a:solidFill>
                <a:uFillTx/>
                <a:latin typeface="Times New Roman"/>
                <a:ea typeface="Courier New"/>
                <a:hlinkClick r:id="rId4"/>
              </a:rPr>
              <a:t>http://www.geocities.com/garfield232323/informatica_e_socieda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75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  <a:ea typeface="Courier New"/>
              </a:rPr>
              <a:t> </a:t>
            </a:r>
            <a:r>
              <a:rPr b="0" lang="pt-BR" sz="2400" spc="-1" strike="noStrike" u="sng">
                <a:solidFill>
                  <a:srgbClr val="ff9933"/>
                </a:solidFill>
                <a:uFillTx/>
                <a:latin typeface="Times New Roman"/>
                <a:ea typeface="Courier New"/>
                <a:hlinkClick r:id="rId5"/>
              </a:rPr>
              <a:t>http</a:t>
            </a:r>
            <a:r>
              <a:rPr b="0" lang="pt-BR" sz="2400" spc="-1" strike="noStrike" u="sng">
                <a:solidFill>
                  <a:srgbClr val="ff9933"/>
                </a:solidFill>
                <a:uFillTx/>
                <a:latin typeface="Times New Roman"/>
                <a:ea typeface="Courier New"/>
                <a:hlinkClick r:id="rId6"/>
              </a:rPr>
              <a:t>://www.ufmg.</a:t>
            </a:r>
            <a:r>
              <a:rPr b="0" lang="pt-BR" sz="2400" spc="-1" strike="noStrike" u="sng">
                <a:solidFill>
                  <a:srgbClr val="ff9933"/>
                </a:solidFill>
                <a:uFillTx/>
                <a:latin typeface="Times New Roman"/>
                <a:ea typeface="Courier New"/>
                <a:hlinkClick r:id="rId7"/>
              </a:rPr>
              <a:t>br</a:t>
            </a:r>
            <a:r>
              <a:rPr b="0" lang="pt-BR" sz="2400" spc="-1" strike="noStrike" u="sng">
                <a:solidFill>
                  <a:srgbClr val="ff9933"/>
                </a:solidFill>
                <a:uFillTx/>
                <a:latin typeface="Times New Roman"/>
                <a:ea typeface="Courier New"/>
                <a:hlinkClick r:id="rId8"/>
              </a:rPr>
              <a:t>/</a:t>
            </a:r>
            <a:r>
              <a:rPr b="0" lang="pt-BR" sz="2400" spc="-1" strike="noStrike" u="sng">
                <a:solidFill>
                  <a:srgbClr val="ff9933"/>
                </a:solidFill>
                <a:uFillTx/>
                <a:latin typeface="Times New Roman"/>
                <a:ea typeface="Courier New"/>
                <a:hlinkClick r:id="rId9"/>
              </a:rPr>
              <a:t>prpg</a:t>
            </a:r>
            <a:r>
              <a:rPr b="0" lang="pt-BR" sz="2400" spc="-1" strike="noStrike" u="sng">
                <a:solidFill>
                  <a:srgbClr val="ff9933"/>
                </a:solidFill>
                <a:uFillTx/>
                <a:latin typeface="Times New Roman"/>
                <a:ea typeface="Courier New"/>
                <a:hlinkClick r:id="rId10"/>
              </a:rPr>
              <a:t>/anais3_ex_terra.</a:t>
            </a:r>
            <a:r>
              <a:rPr b="0" lang="pt-BR" sz="2400" spc="-1" strike="noStrike" u="sng">
                <a:solidFill>
                  <a:srgbClr val="ff9933"/>
                </a:solidFill>
                <a:uFillTx/>
                <a:latin typeface="Times New Roman"/>
                <a:ea typeface="Courier New"/>
                <a:hlinkClick r:id="rId11"/>
              </a:rPr>
              <a:t>ht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  <a:ea typeface="Courier New"/>
              </a:rPr>
              <a:t>    </a:t>
            </a:r>
            <a:r>
              <a:rPr b="0" lang="pt-BR" sz="2400" spc="-1" strike="noStrike">
                <a:solidFill>
                  <a:srgbClr val="ff9900"/>
                </a:solidFill>
                <a:latin typeface="Times New Roman"/>
                <a:ea typeface="Courier New"/>
              </a:rPr>
              <a:t>Anais da III Pesquisa de Pós Graduação da UFMG d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9900"/>
                </a:solidFill>
                <a:latin typeface="Times New Roman"/>
                <a:ea typeface="Courier New"/>
              </a:rPr>
              <a:t>    </a:t>
            </a:r>
            <a:r>
              <a:rPr b="0" lang="pt-BR" sz="2400" spc="-1" strike="noStrike">
                <a:solidFill>
                  <a:srgbClr val="ff9900"/>
                </a:solidFill>
                <a:latin typeface="Times New Roman"/>
                <a:ea typeface="Courier New"/>
              </a:rPr>
              <a:t>21 a 23 de março de 200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75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9900"/>
                </a:solidFill>
                <a:latin typeface="Times New Roman"/>
                <a:ea typeface="Courier New"/>
              </a:rPr>
              <a:t> </a:t>
            </a:r>
            <a:r>
              <a:rPr b="0" lang="pt-BR" sz="2400" spc="-1" strike="noStrike" u="sng">
                <a:solidFill>
                  <a:srgbClr val="ff9933"/>
                </a:solidFill>
                <a:uFillTx/>
                <a:latin typeface="Times New Roman"/>
                <a:ea typeface="Courier New"/>
                <a:hlinkClick r:id="rId12"/>
              </a:rPr>
              <a:t>http</a:t>
            </a:r>
            <a:r>
              <a:rPr b="0" lang="pt-BR" sz="2400" spc="-1" strike="noStrike" u="sng">
                <a:solidFill>
                  <a:srgbClr val="ff9933"/>
                </a:solidFill>
                <a:uFillTx/>
                <a:latin typeface="Times New Roman"/>
                <a:ea typeface="Courier New"/>
                <a:hlinkClick r:id="rId13"/>
              </a:rPr>
              <a:t>://www.nib.unicamp.br/papers/reporter-medico-03.ht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75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9900"/>
                </a:solidFill>
                <a:latin typeface="Times New Roman"/>
                <a:ea typeface="Courier New"/>
              </a:rPr>
              <a:t> </a:t>
            </a:r>
            <a:r>
              <a:rPr b="0" lang="pt-BR" sz="2400" spc="-1" strike="noStrike" u="sng">
                <a:solidFill>
                  <a:srgbClr val="ff9933"/>
                </a:solidFill>
                <a:uFillTx/>
                <a:latin typeface="Times New Roman"/>
                <a:ea typeface="Courier New"/>
                <a:hlinkClick r:id="rId14"/>
              </a:rPr>
              <a:t>http</a:t>
            </a:r>
            <a:r>
              <a:rPr b="0" lang="pt-BR" sz="2400" spc="-1" strike="noStrike" u="sng">
                <a:solidFill>
                  <a:srgbClr val="ff9933"/>
                </a:solidFill>
                <a:uFillTx/>
                <a:latin typeface="Times New Roman"/>
                <a:ea typeface="Courier New"/>
                <a:hlinkClick r:id="rId15"/>
              </a:rPr>
              <a:t>://www.epub.org.br/correio/cp991203.ht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75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9900"/>
                </a:solidFill>
                <a:latin typeface="Times New Roman"/>
                <a:ea typeface="Arial"/>
              </a:rPr>
              <a:t> </a:t>
            </a:r>
            <a:r>
              <a:rPr b="0" lang="pt-BR" sz="2400" spc="-1" strike="noStrike" u="sng">
                <a:solidFill>
                  <a:srgbClr val="ff9933"/>
                </a:solidFill>
                <a:uFillTx/>
                <a:latin typeface="Times New Roman"/>
                <a:ea typeface="Arial"/>
                <a:hlinkClick r:id="rId16"/>
              </a:rPr>
              <a:t>http</a:t>
            </a:r>
            <a:r>
              <a:rPr b="0" lang="pt-BR" sz="2400" spc="-1" strike="noStrike" u="sng">
                <a:solidFill>
                  <a:srgbClr val="ff9933"/>
                </a:solidFill>
                <a:uFillTx/>
                <a:latin typeface="Times New Roman"/>
                <a:ea typeface="Arial"/>
                <a:hlinkClick r:id="rId17"/>
              </a:rPr>
              <a:t>://www.cic.unb.br/extensao/c003/c003.</a:t>
            </a:r>
            <a:r>
              <a:rPr b="0" lang="pt-BR" sz="2400" spc="-1" strike="noStrike" u="sng">
                <a:solidFill>
                  <a:srgbClr val="ff9933"/>
                </a:solidFill>
                <a:uFillTx/>
                <a:latin typeface="Times New Roman"/>
                <a:ea typeface="Arial"/>
                <a:hlinkClick r:id="rId18"/>
              </a:rPr>
              <a:t>ht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894760" y="685800"/>
            <a:ext cx="2885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Times New Roman"/>
                <a:ea typeface="Courier New"/>
              </a:rPr>
              <a:t>Bibliografi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6212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33"/>
                </a:solidFill>
                <a:latin typeface="Arial Narrow"/>
              </a:rPr>
              <a:t>P&amp;D Tecnologias-Chave e Aplicações</a:t>
            </a:r>
            <a:endParaRPr b="0" lang="en-US" sz="2000" spc="-1" strike="noStrike">
              <a:solidFill>
                <a:srgbClr val="ff9900"/>
              </a:solidFill>
              <a:latin typeface="Arial Narrow"/>
            </a:endParaRPr>
          </a:p>
        </p:txBody>
      </p:sp>
      <p:sp>
        <p:nvSpPr>
          <p:cNvPr id="121" name=""/>
          <p:cNvSpPr/>
          <p:nvPr/>
        </p:nvSpPr>
        <p:spPr>
          <a:xfrm>
            <a:off x="1066680" y="2023200"/>
            <a:ext cx="744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s formas tomadas pela sociedade da informação são conseqüências da aplicação intensiva de novas tecnologia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ante de um mundo de competição globalizada os governos têm buscado estratégias de atuação nas frentes  tecnológica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iciativas de P&amp;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iclos de renovação cada vez menor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mo as inovações estão aceleradas, as empresas precisam se manter integradas com instituições de P&amp;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359800" y="6247800"/>
            <a:ext cx="457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Times New Roman"/>
              </a:rPr>
              <a:t>UFMS - Sistemas de Informação - Prof.º Turi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351960" y="989640"/>
            <a:ext cx="241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Descrição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212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33"/>
                </a:solidFill>
                <a:latin typeface="Arial Narrow"/>
              </a:rPr>
              <a:t>P&amp;D Tecnologias-Chave e Aplicações</a:t>
            </a:r>
            <a:endParaRPr b="0" lang="en-US" sz="2000" spc="-1" strike="noStrike">
              <a:solidFill>
                <a:srgbClr val="ff9900"/>
              </a:solidFill>
              <a:latin typeface="Arial Narrow"/>
            </a:endParaRPr>
          </a:p>
        </p:txBody>
      </p:sp>
      <p:sp>
        <p:nvSpPr>
          <p:cNvPr id="125" name=""/>
          <p:cNvSpPr/>
          <p:nvPr/>
        </p:nvSpPr>
        <p:spPr>
          <a:xfrm>
            <a:off x="609480" y="1947240"/>
            <a:ext cx="82836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Classificações da tecnologia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99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99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ff9900"/>
                </a:solidFill>
                <a:latin typeface="Times New Roman"/>
              </a:rPr>
              <a:t>Tecnologias Capacitador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Tecnologias quase maduras, de impacto a curto prazo para incorporação  em bens e serviços;</a:t>
            </a:r>
            <a:r>
              <a:rPr b="0" lang="pt-BR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99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99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ff9900"/>
                </a:solidFill>
                <a:latin typeface="Times New Roman"/>
              </a:rPr>
              <a:t>Tecnologias-chav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Tecnologias ainda não maduras, de impacto potencial de médio prazo (com um horizonte de no mínimo cinco anos para maturação e utilização industrial plenas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359800" y="6247800"/>
            <a:ext cx="457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Times New Roman"/>
              </a:rPr>
              <a:t>UFMS - Sistemas de Informação - Prof.º Turi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698480" y="989640"/>
            <a:ext cx="5715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Tecnologia e Aplicaçõ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6212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33"/>
                </a:solidFill>
                <a:latin typeface="Arial Narrow"/>
              </a:rPr>
              <a:t>P&amp;D Tecnologias-Chave e Aplicações</a:t>
            </a:r>
            <a:endParaRPr b="0" lang="en-US" sz="2000" spc="-1" strike="noStrike">
              <a:solidFill>
                <a:srgbClr val="ff9900"/>
              </a:solidFill>
              <a:latin typeface="Arial Narrow"/>
            </a:endParaRPr>
          </a:p>
        </p:txBody>
      </p:sp>
      <p:sp>
        <p:nvSpPr>
          <p:cNvPr id="129" name=""/>
          <p:cNvSpPr/>
          <p:nvPr/>
        </p:nvSpPr>
        <p:spPr>
          <a:xfrm>
            <a:off x="685800" y="2754720"/>
            <a:ext cx="7826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sde a década de 90 vem se notando considerável esforço de diversos países no sentido de identificar tecnologias-chav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 país com mais experiência nesse processo é o Japã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a década de 90 destacam-se França, Alemanha e Grã-Bretanh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359800" y="6247800"/>
            <a:ext cx="457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Times New Roman"/>
              </a:rPr>
              <a:t>UFMS - Sistemas de Informação - Prof.º Turi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25240" y="1218240"/>
            <a:ext cx="8047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Identificação de Tecnologia-Chav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6212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33"/>
                </a:solidFill>
                <a:latin typeface="Arial Narrow"/>
              </a:rPr>
              <a:t>P&amp;D Tecnologias-Chave e Aplicações</a:t>
            </a:r>
            <a:endParaRPr b="0" lang="en-US" sz="2000" spc="-1" strike="noStrike">
              <a:solidFill>
                <a:srgbClr val="ff9900"/>
              </a:solidFill>
              <a:latin typeface="Arial Narrow"/>
            </a:endParaRPr>
          </a:p>
        </p:txBody>
      </p:sp>
      <p:sp>
        <p:nvSpPr>
          <p:cNvPr id="133" name=""/>
          <p:cNvSpPr/>
          <p:nvPr/>
        </p:nvSpPr>
        <p:spPr>
          <a:xfrm>
            <a:off x="1143000" y="2247480"/>
            <a:ext cx="744552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00 Tecnologias-chav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Quais são as tecnologias importantes para a indústria francesa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Qual é a posição francesa (e a européia) acerca dessas tecnologias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nde se deve alocar esforço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359800" y="6247800"/>
            <a:ext cx="457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Times New Roman"/>
              </a:rPr>
              <a:t>UFMS - Sistemas de Informação - Prof.º Turi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733920" y="1141920"/>
            <a:ext cx="1703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Franç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6212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33"/>
                </a:solidFill>
                <a:latin typeface="Arial Narrow"/>
              </a:rPr>
              <a:t>P&amp;D Tecnologias-Chave e Aplicações</a:t>
            </a:r>
            <a:endParaRPr b="0" lang="en-US" sz="2000" spc="-1" strike="noStrike">
              <a:solidFill>
                <a:srgbClr val="ff9900"/>
              </a:solidFill>
              <a:latin typeface="Arial Narrow"/>
            </a:endParaRPr>
          </a:p>
        </p:txBody>
      </p:sp>
      <p:sp>
        <p:nvSpPr>
          <p:cNvPr id="137" name=""/>
          <p:cNvSpPr/>
          <p:nvPr/>
        </p:nvSpPr>
        <p:spPr>
          <a:xfrm>
            <a:off x="1066680" y="1260720"/>
            <a:ext cx="74455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oram identificados 136 tecnologias importantes em nove área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. Saúde e Tecnologias da Vida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. Meio Ambient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. Tecnologias de Informação e Comunicação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. Transportes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. Materiais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6. Energia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7. Construção e Infra-Estrutura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8. Tecnologias Organizacionais e de Gestão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9. Produção, Instrumentação e Medida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359800" y="6247800"/>
            <a:ext cx="457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Times New Roman"/>
              </a:rPr>
              <a:t>UFMS - Sistemas de Informação - Prof.º Turi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6212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33"/>
                </a:solidFill>
                <a:latin typeface="Arial Narrow"/>
              </a:rPr>
              <a:t>P&amp;D Tecnologias-Chave e Aplicações</a:t>
            </a:r>
            <a:endParaRPr b="0" lang="en-US" sz="2000" spc="-1" strike="noStrike">
              <a:solidFill>
                <a:srgbClr val="ff9900"/>
              </a:solidFill>
              <a:latin typeface="Arial Narrow"/>
            </a:endParaRPr>
          </a:p>
        </p:txBody>
      </p:sp>
      <p:sp>
        <p:nvSpPr>
          <p:cNvPr id="140" name=""/>
          <p:cNvSpPr/>
          <p:nvPr/>
        </p:nvSpPr>
        <p:spPr>
          <a:xfrm>
            <a:off x="609480" y="2183760"/>
            <a:ext cx="8001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guns esforços  de  viabilização  de  infra-estrutura para P&amp;D necessitam-se serem postos em prátic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spectos que devem ser considerado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fra-estrutura de redes e de processamento  de alto desempenho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dução (onde não houver)  e  suporte  a  redes temáticas para tecnologias-chave específicas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finição  de  diretrizes  para  consórcios  de  P&amp;D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iabilização de mecanismos de financiamento de atividad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359800" y="6490440"/>
            <a:ext cx="457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Times New Roman"/>
              </a:rPr>
              <a:t>UFMS - Sistemas de Informação - Prof.º Turi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748880" y="1065600"/>
            <a:ext cx="5702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Novos Modelos de P&amp;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1T23:05:33Z</dcterms:created>
  <dc:creator>AmBev</dc:creator>
  <dc:description/>
  <dc:language>en-US</dc:language>
  <cp:lastModifiedBy>AmBev</cp:lastModifiedBy>
  <dcterms:modified xsi:type="dcterms:W3CDTF">2002-04-19T23:39:12Z</dcterms:modified>
  <cp:revision>78</cp:revision>
  <dc:subject/>
  <dc:title>COMUNICAÇÃO CELULAR DE 3ª GERAÇÃO</dc:title>
</cp:coreProperties>
</file>